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2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and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and 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 and 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ymbo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the mass number and 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 the symbol of the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ss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3 N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sodium-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is neutr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et charge is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= Numbe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ubatomic Particles in Some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P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Z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p+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p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 n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5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5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30 e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otopes of chlor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C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lorine - 35         chlorine - 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turally occurring carbon consists of three isotopes, 12C, 13C, and 14C.  State the number of protons, neutrons, and electrons in each of these carbon atom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p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n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e   _______            _______               _______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2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13C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14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         6        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  6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p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n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7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#e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         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6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7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6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atom of zinc has a mass number of 6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prot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 3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of neutrons in the zinc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35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 What is the mass number of a zinc isotop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37 neutron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 the atomic symbols for atoms with  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ic The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oms are building blocks of ele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atoms in each e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from atoms of other el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different atoms bond in simple ratios to form com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6O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A.  8 p+, 8 n, 8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 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p+, 20n, 17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37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7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.  47p+, 60 n, 47 e-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07A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4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 is the weighted average mass  of all the atomic masses of the isotopes of that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of an Average Atomic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-35 is about 75.5 % and Cl-37 about 24.5% of  natural chlorin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   x   75.5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26.4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.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7  x    24.5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     9.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article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Symbol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Charge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Mass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lec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e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1-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Prot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p+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Neutro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n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0 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  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ocation of Subatomic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13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u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10-8 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unts the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 at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 on the Periodic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atoms of an element have the same number of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arning Check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5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 7 protons     3)  14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32 proton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2)  16 protons    3)  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 137 protons  2)  81 protons    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e the number of protons for atoms of each of the follow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 7 protons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Sulfu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 1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Barium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 56 pr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D65E-CF8F-4D62-8A2A-6C6C11E4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83D-B571-4436-9D29-3B5DD255E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287E-2A5A-44E6-8637-0BF298AF1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E6D0-18AB-4B82-AFF2-AF5E3C991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A41B-B36E-46B4-8685-2FF0CEA6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ED7A-D531-4870-9A81-900817D58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3650A-976B-45DE-9330-A04F5601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9BF4-24C6-4BC6-A3DD-C02643484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35BB-B43D-4472-AB5B-5A8331A5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D6CA-1002-4498-B0E7-66E3E136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9396-C49E-4E95-8343-4FA5F2C5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64D2-B54A-4499-9BFF-0DC616B3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26869-780A-439F-B4FD-061EB8E56D3E}" type="slidenum"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apter 2</a:t>
            </a: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Atoms and Element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The Atom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Atomic Number and Mass Number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333333"/>
                </a:solidFill>
                <a:latin typeface="Times New Roman"/>
              </a:rPr>
              <a:t>Isotopes</a:t>
            </a:r>
            <a:endParaRPr b="0" lang="en-US" sz="3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Line 4"/>
          <p:cNvSpPr/>
          <p:nvPr/>
        </p:nvSpPr>
        <p:spPr>
          <a:xfrm>
            <a:off x="1523880" y="1066680"/>
            <a:ext cx="586764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33"/>
                </a:solidFill>
                <a:latin typeface="Times New Roman"/>
              </a:rPr>
              <a:t>Mass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Counts the number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of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rotons and neutron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333333"/>
                </a:solidFill>
                <a:latin typeface="Times New Roman"/>
              </a:rPr>
              <a:t>in an atom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Symbol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160" y="1980720"/>
            <a:ext cx="830556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33"/>
                </a:solidFill>
                <a:latin typeface="Times New Roman"/>
              </a:rPr>
              <a:t>Show the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 and atomic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Give the symbol of the element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mass number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23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Na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sodium-23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1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Line 4"/>
          <p:cNvSpPr/>
          <p:nvPr/>
        </p:nvSpPr>
        <p:spPr>
          <a:xfrm>
            <a:off x="3276720" y="4114800"/>
            <a:ext cx="914400" cy="45720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Line 5"/>
          <p:cNvSpPr/>
          <p:nvPr/>
        </p:nvSpPr>
        <p:spPr>
          <a:xfrm flipV="1">
            <a:off x="3505320" y="5181120"/>
            <a:ext cx="685800" cy="30492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240" y="2514240"/>
            <a:ext cx="89154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n atom is neutral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he net charge is zero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umber of protons = 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cc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r>
              <a:rPr b="1" lang="en-US" sz="3000" spc="-1" strike="noStrike">
                <a:solidFill>
                  <a:srgbClr val="ff9900"/>
                </a:solidFill>
                <a:latin typeface="Times New Roman"/>
              </a:rPr>
              <a:t> =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Number of electr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00" name="Object 4" descr=""/>
          <p:cNvPicPr/>
          <p:nvPr/>
        </p:nvPicPr>
        <p:blipFill>
          <a:blip r:embed="rId1"/>
          <a:stretch/>
        </p:blipFill>
        <p:spPr>
          <a:xfrm>
            <a:off x="7162920" y="1219320"/>
            <a:ext cx="1531800" cy="213336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 in Some Atom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31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-25000">
                <a:solidFill>
                  <a:srgbClr val="ff0000"/>
                </a:solidFill>
                <a:latin typeface="Times New Roman"/>
              </a:rPr>
              <a:t>65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O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P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Z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baseline="30000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15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5000" spc="-1" strike="noStrike" baseline="30000">
                <a:solidFill>
                  <a:srgbClr val="ff0000"/>
                </a:solidFill>
                <a:latin typeface="Times New Roman"/>
              </a:rPr>
              <a:t>30</a:t>
            </a:r>
            <a:endParaRPr b="0" lang="en-US" sz="5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p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+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6 n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 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8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5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0 e</a:t>
            </a:r>
            <a:r>
              <a:rPr b="1" lang="en-US" sz="3200" spc="-1" strike="noStrike" baseline="30000">
                <a:solidFill>
                  <a:srgbClr val="0033cc"/>
                </a:solidFill>
                <a:latin typeface="Times New Roman"/>
              </a:rPr>
              <a:t>-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Isotop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with the same number of protons, but different numbers of neutrons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51"/>
              </a:spcBef>
              <a:buClr>
                <a:srgbClr val="3333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of the same element (same atomic number) with different mass number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Isotopes of chlorin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5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3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l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1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lorine - 35         chlorine - 37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aturally occurring carbon consists of three isotopes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, and 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State the number of protons, neutrons, and electrons in each of these carbon atom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p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n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#e   _______            _______               _______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228600" y="0"/>
            <a:ext cx="1952640" cy="19810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2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3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14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         6                       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    6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p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n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7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#e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        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6  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5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7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6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n atom of zinc has a mass number of 65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A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prot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 30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umber of neutrons in the zinc ato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35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.   What is the mass number of a zinc isotope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with 37 neutrons?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67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Write the atomic symbols for atoms with   the following: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___________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2948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Theory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240" y="2209680"/>
            <a:ext cx="8915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s are building blocks of elements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Similar atoms in each element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Different from atoms of other element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751"/>
              </a:spcBef>
              <a:buClr>
                <a:srgbClr val="ff99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Two or more different atoms bond in simple ratios to form compound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0" name="Object 4" descr=""/>
          <p:cNvPicPr/>
          <p:nvPr/>
        </p:nvPicPr>
        <p:blipFill>
          <a:blip r:embed="rId1"/>
          <a:stretch/>
        </p:blipFill>
        <p:spPr>
          <a:xfrm>
            <a:off x="6858000" y="30492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458200" cy="5029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6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.  8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8 n, 8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B.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20n, 17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3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l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en-US" sz="3000" spc="-1" strike="noStrike" baseline="-25000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C.  47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, 60 n, 47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107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g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47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580920" y="2286000"/>
            <a:ext cx="297180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 fontScale="97000"/>
          </a:bodyPr>
          <a:p>
            <a:pPr marL="33264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66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22.99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535320" y="259092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763920" y="365760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1" name="Line 6"/>
          <p:cNvSpPr/>
          <p:nvPr/>
        </p:nvSpPr>
        <p:spPr>
          <a:xfrm>
            <a:off x="2819520" y="4114800"/>
            <a:ext cx="152388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2" name="Line 7"/>
          <p:cNvSpPr/>
          <p:nvPr/>
        </p:nvSpPr>
        <p:spPr>
          <a:xfrm>
            <a:off x="3505320" y="289548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459360" y="5181480"/>
            <a:ext cx="2306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4" name="Line 9"/>
          <p:cNvSpPr/>
          <p:nvPr/>
        </p:nvSpPr>
        <p:spPr>
          <a:xfrm>
            <a:off x="2895480" y="5486400"/>
            <a:ext cx="11430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Atomic mass is the weighted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average mass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of all the atomic masses of the isotopes of that atom.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Example of an Average Atomic Mas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Cl-35 is about 75.5 % and Cl-37 about 24.5% of  natural chlorine.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5 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75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=    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6.4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35.5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37  x  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 </a:t>
            </a:r>
            <a:r>
              <a:rPr b="1" lang="en-US" sz="3200" spc="-1" strike="noStrike" u="sng">
                <a:solidFill>
                  <a:srgbClr val="0033cc"/>
                </a:solidFill>
                <a:uFillTx/>
                <a:latin typeface="Times New Roman"/>
              </a:rPr>
              <a:t>24.5</a:t>
            </a:r>
            <a:r>
              <a:rPr b="1" lang="en-US" sz="3200" spc="-1" strike="noStrike" u="sng">
                <a:solidFill>
                  <a:srgbClr val="333333"/>
                </a:solidFill>
                <a:uFillTx/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=       9.07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100         </a:t>
            </a: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6324480" y="3124080"/>
            <a:ext cx="838440" cy="2133720"/>
          </a:xfrm>
          <a:custGeom>
            <a:avLst/>
            <a:gdLst>
              <a:gd name="textAreaLeft" fmla="*/ 0 w 838440"/>
              <a:gd name="textAreaRight" fmla="*/ 302760 w 838440"/>
              <a:gd name="textAreaTop" fmla="*/ 55440 h 2133720"/>
              <a:gd name="textAreaBottom" fmla="*/ 2078280 h 2133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07732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article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Symbol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Charge  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Relative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Mas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Elec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e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1-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0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Prot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p</a:t>
            </a:r>
            <a:r>
              <a:rPr b="1" lang="en-US" sz="3000" spc="-1" strike="noStrike" baseline="30000">
                <a:solidFill>
                  <a:srgbClr val="333333"/>
                </a:solidFill>
                <a:latin typeface="Times New Roman"/>
              </a:rPr>
              <a:t>+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+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Neutro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n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0  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3000" spc="-1" strike="noStrike">
                <a:solidFill>
                  <a:srgbClr val="333333"/>
                </a:solidFill>
                <a:latin typeface="Times New Roman"/>
              </a:rPr>
              <a:t>   1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4" name="Object 4" descr=""/>
          <p:cNvPicPr/>
          <p:nvPr/>
        </p:nvPicPr>
        <p:blipFill>
          <a:blip r:embed="rId1"/>
          <a:stretch/>
        </p:blipFill>
        <p:spPr>
          <a:xfrm>
            <a:off x="6934320" y="3429000"/>
            <a:ext cx="2003400" cy="205740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ocation of Subatomic Particle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13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elec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neutr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10</a:t>
            </a:r>
            <a:r>
              <a:rPr b="1" lang="en-US" sz="2800" spc="-1" strike="noStrike" baseline="30000">
                <a:solidFill>
                  <a:srgbClr val="333333"/>
                </a:solidFill>
                <a:latin typeface="Times New Roman"/>
              </a:rPr>
              <a:t>-8 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8" name="Object 4" descr=""/>
          <p:cNvPicPr/>
          <p:nvPr/>
        </p:nvPicPr>
        <p:blipFill>
          <a:blip r:embed="rId1"/>
          <a:stretch/>
        </p:blipFill>
        <p:spPr>
          <a:xfrm>
            <a:off x="2895480" y="2209680"/>
            <a:ext cx="3934080" cy="40388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5"/>
          <p:cNvSpPr/>
          <p:nvPr/>
        </p:nvSpPr>
        <p:spPr>
          <a:xfrm>
            <a:off x="4267080" y="4002120"/>
            <a:ext cx="15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ucleu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Line 6"/>
          <p:cNvSpPr/>
          <p:nvPr/>
        </p:nvSpPr>
        <p:spPr>
          <a:xfrm flipV="1">
            <a:off x="5410080" y="3886200"/>
            <a:ext cx="167652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Line 7"/>
          <p:cNvSpPr/>
          <p:nvPr/>
        </p:nvSpPr>
        <p:spPr>
          <a:xfrm>
            <a:off x="5410080" y="4267080"/>
            <a:ext cx="1600200" cy="6098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Line 8"/>
          <p:cNvSpPr/>
          <p:nvPr/>
        </p:nvSpPr>
        <p:spPr>
          <a:xfrm>
            <a:off x="2743200" y="2819520"/>
            <a:ext cx="106668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Line 9"/>
          <p:cNvSpPr/>
          <p:nvPr/>
        </p:nvSpPr>
        <p:spPr>
          <a:xfrm>
            <a:off x="4267080" y="1981080"/>
            <a:ext cx="9144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Line 10"/>
          <p:cNvSpPr/>
          <p:nvPr/>
        </p:nvSpPr>
        <p:spPr>
          <a:xfrm>
            <a:off x="2971800" y="6248520"/>
            <a:ext cx="4114800" cy="0"/>
          </a:xfrm>
          <a:prstGeom prst="line">
            <a:avLst/>
          </a:prstGeom>
          <a:ln w="38160">
            <a:solidFill>
              <a:srgbClr val="ff0033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Line 11"/>
          <p:cNvSpPr/>
          <p:nvPr/>
        </p:nvSpPr>
        <p:spPr>
          <a:xfrm>
            <a:off x="2743200" y="2895480"/>
            <a:ext cx="380880" cy="9907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33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Counts the number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of 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proton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33cc"/>
                </a:solidFill>
                <a:latin typeface="Times New Roman"/>
              </a:rPr>
              <a:t>in an atom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tomic Number on the Periodic Table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58092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535320" y="2971800"/>
            <a:ext cx="2815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Atomic Number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1280" y="44197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ymbol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514600" y="4724280"/>
            <a:ext cx="15238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Line 7"/>
          <p:cNvSpPr/>
          <p:nvPr/>
        </p:nvSpPr>
        <p:spPr>
          <a:xfrm>
            <a:off x="3276720" y="3352680"/>
            <a:ext cx="129528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noFill/>
          <a:ln w="2844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All atoms of an element have the same number of protons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57240" y="2743200"/>
            <a:ext cx="2971800" cy="2819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33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7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8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534600" y="3048120"/>
            <a:ext cx="1905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11 protons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10920" y="4419720"/>
            <a:ext cx="1428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33cc"/>
                </a:solidFill>
                <a:latin typeface="Times New Roman"/>
              </a:rPr>
              <a:t>Sodium</a:t>
            </a:r>
            <a:endParaRPr b="0" lang="en-US" sz="3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Line 6"/>
          <p:cNvSpPr/>
          <p:nvPr/>
        </p:nvSpPr>
        <p:spPr>
          <a:xfrm>
            <a:off x="2666880" y="47242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Line 7"/>
          <p:cNvSpPr/>
          <p:nvPr/>
        </p:nvSpPr>
        <p:spPr>
          <a:xfrm>
            <a:off x="2666880" y="3352680"/>
            <a:ext cx="1295640" cy="0"/>
          </a:xfrm>
          <a:prstGeom prst="line">
            <a:avLst/>
          </a:prstGeom>
          <a:ln w="381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Learning Check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5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 7 protons     3)  14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32 proton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 2)  16 protons    3)  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)  137 protons  2)  81 protons    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olution </a:t>
            </a:r>
            <a:endParaRPr b="0" lang="en-US" sz="4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State the number of protons for atoms of each of the following: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A.  Nitrogen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 7 protons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B.  Sulfur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)  1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C.  Barium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)  56 proton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0:13:26Z</dcterms:created>
  <dc:creator>Karen Timberlake</dc:creator>
  <dc:description/>
  <dc:language>en-US</dc:language>
  <cp:lastModifiedBy>LEGION</cp:lastModifiedBy>
  <dcterms:modified xsi:type="dcterms:W3CDTF">2017-01-26T09:14:52Z</dcterms:modified>
  <cp:revision>10</cp:revision>
  <dc:subject/>
  <dc:title>Atomic number and mass numb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1</vt:bool>
  </property>
  <property fmtid="{D5CDD505-2E9C-101B-9397-08002B2CF9AE}" pid="6" name="DownloadOriginal">
    <vt:bool>1</vt:bool>
  </property>
  <property fmtid="{D5CDD505-2E9C-101B-9397-08002B2CF9AE}" pid="7" name="GraphicType">
    <vt:r8>3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khemist@aol.com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CHMSTRY\ChemModules\HTMLPPZ\CH2</vt:lpwstr>
  </property>
  <property fmtid="{D5CDD505-2E9C-101B-9397-08002B2CF9AE}" pid="14" name="ScreenSize">
    <vt:r8>1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-1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